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A95-1D90-4A28-A94E-D15FE89E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238-76A6-42A3-8A00-20D33AEF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7F5C-9FE8-46A3-AB12-5F6D5814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894-1427-49C9-92D9-043CA4D0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F7C-84CE-4A4D-945F-7345C408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8E0-9624-4A70-9505-3270F673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07E-9B96-4FAA-9C32-90B237BF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9B0-79A7-4034-A526-2EF89C1B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33D-3252-4366-9C71-2B65BEFF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9FF9-6AC3-4601-917E-D6528DB6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126-F77E-453B-A704-20542CA2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3CD-1388-4EF3-812A-7D2E5707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8939-9DE2-487E-BD98-F887B95E6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ildBaseline9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Baseline10.jpg"/>
          <p:cNvPicPr/>
          <p:nvPr/>
        </p:nvPicPr>
        <p:blipFill>
          <a:blip r:embed="rId1"/>
          <a:stretch/>
        </p:blipFill>
        <p:spPr>
          <a:xfrm>
            <a:off x="771480" y="843120"/>
            <a:ext cx="76010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Baseline1.jpg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Baseline2.jpg"/>
          <p:cNvPicPr/>
          <p:nvPr/>
        </p:nvPicPr>
        <p:blipFill>
          <a:blip r:embed="rId1"/>
          <a:stretch/>
        </p:blipFill>
        <p:spPr>
          <a:xfrm>
            <a:off x="776160" y="838080"/>
            <a:ext cx="7591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Baseline3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Baseline3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hildBaseline4.jpg"/>
          <p:cNvPicPr/>
          <p:nvPr/>
        </p:nvPicPr>
        <p:blipFill>
          <a:blip r:embed="rId2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Baseline5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Baseline6.jpg"/>
          <p:cNvPicPr/>
          <p:nvPr/>
        </p:nvPicPr>
        <p:blipFill>
          <a:blip r:embed="rId1"/>
          <a:stretch/>
        </p:blipFill>
        <p:spPr>
          <a:xfrm>
            <a:off x="776160" y="838080"/>
            <a:ext cx="7591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Baseline7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Baseline8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29:17Z</dcterms:created>
  <dc:creator>zcui</dc:creator>
  <dc:description/>
  <dc:language>en-US</dc:language>
  <cp:lastModifiedBy>rbalne</cp:lastModifiedBy>
  <dcterms:modified xsi:type="dcterms:W3CDTF">2009-08-12T13:57:11Z</dcterms:modified>
  <cp:revision>2</cp:revision>
  <dc:subject/>
  <dc:title>Slide 1</dc:title>
</cp:coreProperties>
</file>